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5CF-EBF6-4972-90F1-FA61D3A1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69D9-84AA-4F78-8268-87606AF9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225-1401-4517-8EB8-6694CD2B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AA27-C8B6-47A9-B699-E1A5294B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1FF-58E2-400C-8843-FCC32E91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2275-A562-4918-ABCD-87B77BFE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2DC-73A0-4AA3-8F51-E4030B89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D22-D535-4205-A66E-4CFBC06B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466-44E3-4896-AAE8-7AE194A9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B0F-2C03-459E-BFF4-14CB1A34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23E-8E77-4419-AADA-E955F4C0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A50F-ECF8-4D32-AB9D-C447C777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8643-5EC1-43AC-B6D4-40BF4E98C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-36000"/>
          </a:blip>
          <a:srcRect l="0" t="0" r="4769" b="0"/>
          <a:stretch/>
        </p:blipFill>
        <p:spPr>
          <a:xfrm>
            <a:off x="7924680" y="60958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outheastern European Economies: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ook, Risks, and Policy Priorit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manuel van der Mensbrug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Representative of the IMF to the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94360" y="0"/>
            <a:ext cx="224964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700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llout of financial turbulence is a key downside ri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451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turbulence has raised borrowing costs for emerging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30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bulence could reduce demand for SEE exports from a less confident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2486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inancial turbulence may cause foreign banks to tighten credi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1630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Making SEE more Resili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and deep financia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ing Europe remains an attractive region for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and prospective EU membership anchors policies and spurs institutional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rge part of capital inflows is F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ll, a happy ending is not guarant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balances may result in capital flow re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in one country may spread to another through cross-border conta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and risks assessments by borrowers and lenders may prove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financing is becoming increasing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accession is no panac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arding against the downside risks and secure continued successful converg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ary policy generally needs tightening to contain inflationary pres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tightening needed to cool overheating economies with large current account defic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upervisors need to stay on the ball and ensure strong financial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n structural reforms to improve investment climate, flexibility of markets, and reap benefits from international economic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surpluses will dampen excess demand and provide buffers against sh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7421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argeting and efficiency of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e state aid to EU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ize public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public sector wages to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 buffers and prepare contingency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he tax system and improve tax administration/reduce tax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fiscal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guard long-term fiscal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77120" y="3581280"/>
            <a:ext cx="2666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ong banking sector is key to withstand turb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astern Europe has been growing rapidly, reflecting convergence with the W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ystems need to be further developed to contribute to resilience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9800" y="914400"/>
            <a:ext cx="86742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reforms are needed to continue the transition and support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9800" y="762120"/>
            <a:ext cx="8674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business environment more compet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corruption will be beneficial for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74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trade integration has upward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, though not all, SEE countries are also successfully containing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382760"/>
            <a:ext cx="80071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hallenge: continue to catch up rapid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ring more jobs to the formal economy so that benefits are widely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account imbalances are a c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igh external debt creates vulner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7384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ar-term outlook for SEE remains favo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04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718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lowing seems likely further ahead as global and European growth soften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5080" y="914400"/>
            <a:ext cx="867384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3:06:32Z</dcterms:created>
  <dc:creator>avamvakidis</dc:creator>
  <dc:description/>
  <dc:language>en-US</dc:language>
  <cp:lastModifiedBy>evandermensbrugghe</cp:lastModifiedBy>
  <dcterms:modified xsi:type="dcterms:W3CDTF">2008-01-22T15:18:42Z</dcterms:modified>
  <cp:revision>870</cp:revision>
  <dc:subject/>
  <dc:title>The Southeastern European Economies:  Vulnerabilities, Challenges and  Opportunities </dc:title>
</cp:coreProperties>
</file>